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2C7-5C09-4E85-8FC3-84EACECE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D70-712D-4246-9E19-B70B4FA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D55-7D08-49CA-8010-6E85949A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46F-040A-46BB-AEF9-F3F39328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A0BC-A0A5-4E77-BAF6-3ACE9CF9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EB2-D94C-41CF-A1FB-47F33E7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374-0B20-4C89-9141-35D2E05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EF19-969E-4119-BA7D-EF16938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378F-0626-4D07-A8D3-D913CCB0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FAF9-7B41-40AD-86B5-09D0A881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5B0F-0AB9-4629-A16D-D6BBD878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C80-D36F-49E5-A087-7F81202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133-A47D-4827-942D-10399F73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B16A-BA92-4029-9AFE-63F818E7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DA7-ACB2-490E-BA68-37F78D75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C52C-72FF-40A0-9DCE-B59E500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CD54-0C25-45D5-91B2-7E6D060E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155-2A57-4E27-8474-454623AC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552-2CC6-4D6B-B527-A35B884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757-10D9-40CA-AF57-ED0380D0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B51-EEB9-4144-8558-5BB941D2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661-E268-417C-BCB1-B7BA91C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354-EB72-4BE4-A92E-BB13A51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FB5-2AAA-4F92-A96F-78A58B6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494F-5885-4548-9976-10CAE4152246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Esityksen nimi / Tekij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E5A9-FF79-4F4B-8FBF-BEF65161B593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5867280" y="6324480"/>
            <a:ext cx="2773440" cy="104760"/>
            <a:chOff x="5867280" y="6324480"/>
            <a:chExt cx="2773440" cy="104760"/>
          </a:xfrm>
        </p:grpSpPr>
        <p:sp>
          <p:nvSpPr>
            <p:cNvPr id="7" name="Freeform 27"/>
            <p:cNvSpPr/>
            <p:nvPr/>
          </p:nvSpPr>
          <p:spPr>
            <a:xfrm>
              <a:off x="6978600" y="63244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8"/>
            <p:cNvSpPr/>
            <p:nvPr/>
          </p:nvSpPr>
          <p:spPr>
            <a:xfrm>
              <a:off x="5867280" y="63244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6"/>
          <p:cNvGrpSpPr/>
          <p:nvPr/>
        </p:nvGrpSpPr>
        <p:grpSpPr>
          <a:xfrm>
            <a:off x="2897280" y="5270400"/>
            <a:ext cx="3274560" cy="123840"/>
            <a:chOff x="2897280" y="5270400"/>
            <a:chExt cx="3274560" cy="123840"/>
          </a:xfrm>
        </p:grpSpPr>
        <p:sp>
          <p:nvSpPr>
            <p:cNvPr id="48" name="Freeform 34"/>
            <p:cNvSpPr/>
            <p:nvPr/>
          </p:nvSpPr>
          <p:spPr>
            <a:xfrm>
              <a:off x="4209840" y="5270400"/>
              <a:ext cx="1962000" cy="12384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5"/>
            <p:cNvSpPr/>
            <p:nvPr/>
          </p:nvSpPr>
          <p:spPr>
            <a:xfrm>
              <a:off x="2897280" y="5271480"/>
              <a:ext cx="1239480" cy="12168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1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2C0-DC67-419A-B18F-DDF17F3A6594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Esityksen nimi / Tekij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7709-2630-4D30-9D60-163D6A3C305F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adonin terveysvaikutukset Suome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7405-7635-483D-893B-8A5ED2B8AAB8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Radonin terveysvaikutukset Suomessa/ Jouni Tuomisto, Einari Happonen &amp; Juha Vill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D2B8-16A0-4916-8EE3-F3DA183876C4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banneri_7b_powerpoint2012.jpg"/>
          <p:cNvPicPr/>
          <p:nvPr/>
        </p:nvPicPr>
        <p:blipFill>
          <a:blip r:embed="rId1"/>
          <a:stretch/>
        </p:blipFill>
        <p:spPr>
          <a:xfrm>
            <a:off x="0" y="581328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7bc143"/>
                </a:solidFill>
                <a:latin typeface="Arial"/>
              </a:rPr>
              <a:t>Käyttöliittymä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CA8-9AF8-4D96-83CB-E6F9471D807C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C7F1-E75F-48C3-ABF5-884B38E2B631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276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0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8D86-6F20-46E5-84A6-73652088BE86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3D10-7148-4BB1-974C-B4C793F513B0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755640" y="1584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45AB-18B6-4393-9F86-5D73F9F63481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C654-572A-4FA2-93C0-A414A5F00950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6438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2:33:56Z</dcterms:created>
  <dc:creator>Juha Villman</dc:creator>
  <dc:description/>
  <dc:language>en-US</dc:language>
  <cp:lastModifiedBy>Juha Villman</cp:lastModifiedBy>
  <dcterms:modified xsi:type="dcterms:W3CDTF">2012-10-26T12:38:50Z</dcterms:modified>
  <cp:revision>3</cp:revision>
  <dc:subject>suomi</dc:subject>
  <dc:title>Radonin terveysvaikutukset Suomessa</dc:title>
</cp:coreProperties>
</file>